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3F25-480F-4871-BD59-5815352A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8E50-84CE-44DA-9B6D-5D318837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CFE-A6D9-4A1D-9BF2-F088C617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1DA-9BE1-41DE-BC7B-6D5F4C56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AF4B-9F57-4799-8A07-7032C287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248-D604-4A68-B541-3FDD90E6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C43-05A0-4ACF-9D01-CAF28A2E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00A-8253-4D09-AFA0-BD18EEDB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0935-3260-4E03-A8AB-313C8D59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FAF7-0C71-455F-BD71-BFABA4F8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AC1-A63B-4277-BA38-97F7F847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8461-F2A4-4E2B-B00F-9582D457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B7E5-F291-4C02-B5BF-14F6DB318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riosit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the basis of education and if you tell m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at curiosity killed the cat, I say only the cat died nobl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~Arnold Edinboroug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8" descr="Cats_Dogs_School.jpg"/>
          <p:cNvPicPr/>
          <p:nvPr/>
        </p:nvPicPr>
        <p:blipFill>
          <a:blip r:embed="rId1"/>
          <a:stretch/>
        </p:blipFill>
        <p:spPr>
          <a:xfrm>
            <a:off x="2895480" y="1752480"/>
            <a:ext cx="3273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8T14:56:58Z</dcterms:created>
  <dc:creator>Cari Sonnenburg</dc:creator>
  <dc:description/>
  <dc:language>en-US</dc:language>
  <cp:lastModifiedBy>Cari Sonnenburg</cp:lastModifiedBy>
  <dcterms:modified xsi:type="dcterms:W3CDTF">2010-05-08T15:03:31Z</dcterms:modified>
  <cp:revision>1</cp:revision>
  <dc:subject/>
  <dc:title>Curiosity is the basis of education and if you tell me that curiosity killed the cat, I say only the cat died nobly. ~Arnold Edinborough</dc:title>
</cp:coreProperties>
</file>